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855-02BA-4D20-A115-09DACDB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D09-F036-4EE7-BC98-9BDEC6E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A90-B5E7-4F7D-BD58-5D942668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505-ADDB-414A-9CBF-026E328A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D08-462F-42C3-98C7-B96CBC4B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121-2DFA-4AAB-AC92-A61E99F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35B-43D5-4C59-9F09-A632966B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7D2-AAF6-4D94-9FCD-7848239C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97C-4263-49F7-8C70-9CB257E9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3B8-584B-446A-8ADF-D4A024F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BFA-FC5B-4655-AC11-542A843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70C-0B14-439C-BAE8-FEA354BB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EC3-CC04-457C-ACDA-250042AF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Calibri"/>
              </a:rPr>
              <a:t>How Does Energy Move Between Liquids That are at Different Temperat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Kristen ITC"/>
              </a:rPr>
              <a:t>By: Kristin and Kir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828800" cy="182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762120"/>
            <a:ext cx="784872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Purpos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How does energy move between liquids that are at different temper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Hypothesi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s hot and cold water mix, the new temperature will be between the hot and cold 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Independent Variabl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mount of water 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Level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3276720"/>
          <a:ext cx="8305920" cy="814320"/>
        </p:xfrm>
        <a:graphic>
          <a:graphicData uri="http://schemas.openxmlformats.org/drawingml/2006/table">
            <a:tbl>
              <a:tblPr/>
              <a:tblGrid>
                <a:gridCol w="1658880"/>
                <a:gridCol w="1662120"/>
                <a:gridCol w="1663920"/>
                <a:gridCol w="1662120"/>
                <a:gridCol w="165888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mL (contr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85800" y="4343400"/>
            <a:ext cx="8001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ependant Variable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Temperature of the mixed water, (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Constants:</a:t>
            </a:r>
            <a:r>
              <a:rPr b="0" lang="en-US" sz="1800" spc="-1" strike="noStrike">
                <a:solidFill>
                  <a:srgbClr val="cc66ff"/>
                </a:solidFill>
                <a:latin typeface="Calibri"/>
              </a:rPr>
              <a:t> Amount of hot water, Temperature of the hot water,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76197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Measure temperature of ic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our 10mL of  ice water into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Measure 30mL of hot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Wait until the water heats up to 85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Pour ice water into the hot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Record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alibri"/>
              </a:rPr>
              <a:t>Repeat steps 1-6 for 20, 30, 40, and 50mL of ic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869840" cy="217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1967040" cy="173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3818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ata Table: Trial 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Amount of ice water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ice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hot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mixed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7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1676520" cy="111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85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alibri"/>
              </a:rPr>
              <a:t>Data Table: Trial 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3880" y="137160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Amount of ice water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ice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hot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Temp. of mixed water (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7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ff"/>
                          </a:solidFill>
                          <a:latin typeface="Calibri"/>
                        </a:rPr>
                        <a:t>4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119240" cy="1793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6250" t="17998" r="20625" b="20001"/>
          <a:stretch/>
        </p:blipFill>
        <p:spPr>
          <a:xfrm>
            <a:off x="152280" y="1219320"/>
            <a:ext cx="8839440" cy="54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Results Graph: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533520"/>
            <a:ext cx="769608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Conclus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According to our data, the more cold water that was added to the same amount of hot water the temperature of the mixed water was c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put in 50mL of cold water the temperature of the mixed water was c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e used 85°C hot water and the temperature of the cold water was a little different each time we did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The cold temperature was between 6°C to 11°C. We started with 10mL of cold water with 30mL of hot water and the temperature of the mixed water was 72.2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used 50mL of cold water and 30mL of hot water the mixed temperature was 42.3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Our hypothesis was that as more cold water was added to the hot water the mixed temperature would be between the hot and cold tempera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Our hypothesis was supported because the temperature of the mixed water was in between the hot and cold wa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Calibri"/>
              </a:rPr>
              <a:t>When we added more cold water the temperature of the mix water was closer to the temperature of the cold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15:21Z</dcterms:created>
  <dc:creator>default</dc:creator>
  <dc:description/>
  <dc:language>en-US</dc:language>
  <cp:lastModifiedBy>default</cp:lastModifiedBy>
  <dcterms:modified xsi:type="dcterms:W3CDTF">2008-01-04T15:54:18Z</dcterms:modified>
  <cp:revision>18</cp:revision>
  <dc:subject/>
  <dc:title>How Does Energy Move Between Liquids That are at Different Temperatures?</dc:title>
</cp:coreProperties>
</file>